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push.wav" ContentType="audio/x-wav"/>
  <Override PartName="/ppt/media/image8.jpeg" ContentType="image/jpeg"/>
  <Override PartName="/ppt/media/image5.png" ContentType="image/png"/>
  <Override PartName="/ppt/media/image10.jpeg" ContentType="image/jpeg"/>
  <Override PartName="/ppt/media/chimes.wav" ContentType="audio/x-wav"/>
  <Override PartName="/ppt/media/wind.wav" ContentType="audio/x-wav"/>
  <Override PartName="/ppt/media/image16.jpeg" ContentType="image/jpeg"/>
  <Override PartName="/ppt/media/bomb.wav" ContentType="audio/x-wav"/>
  <Override PartName="/ppt/media/explode.wav" ContentType="audio/x-wav"/>
  <Override PartName="/ppt/media/camera.wav" ContentType="audio/x-wav"/>
  <Override PartName="/ppt/media/image7.jpeg" ContentType="image/jpeg"/>
  <Override PartName="/ppt/media/image6.png" ContentType="image/png"/>
  <Override PartName="/ppt/media/applause.wav" ContentType="audio/x-wav"/>
  <Override PartName="/ppt/media/drumroll.wav" ContentType="audio/x-wav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951663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5A2-961D-4F97-BECE-4D91B7CC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345-5C49-415B-A94F-1CC40805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338-D66D-45F1-A25D-2EF04E84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610-3C7A-4E66-A3FD-A1D258E8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C06F-D9BB-4101-8F56-31615F82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FF37-3FBF-481C-92A6-6D7ABE59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E413-08DB-4A77-A590-7373D33B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B59F-96FF-4594-8333-21587023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562A-FF3E-43C4-B7B9-7BAE5E22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C38F-29F9-412C-B6EB-3028D9E7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104-3850-4D6D-9534-381B7A41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9BE-061C-490B-B17A-A82C8EFA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DFEF-87E9-489F-A39F-A6A50AA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B73C-FCE5-4502-9463-9DBAB2A4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6665-F532-4768-A832-DC082B0B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5541-8092-4FAE-89D4-2F825CE6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97DE-C5C1-4F51-846D-55216574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F52A-7E09-44BA-B2C8-E52BD732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F34F-5CA9-4503-B4A1-DAE6325F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34A9-AA01-40C6-8404-6C7B0D2D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0860-1B17-4ABF-A21C-5434016A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E0A4-A724-46BC-931E-1D509CE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580-622F-43D7-90A3-75DB9B65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8B3B0-3310-4CA3-9FEA-EF54B6A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0943-CC48-4F5C-96FC-B7F0A7E8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FAB0-46BF-4EC0-9892-FE691FE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BDEC-2920-41C8-AD97-2EB408E2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8176-C3DA-4357-ADE4-FC2ACFC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1284-D133-48CA-A2BE-157EAAAF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9F00-7AFE-41A6-8077-D08A9A53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7D3A-F415-46EC-A290-0177CB70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D0C7-28AB-4230-BA36-A0D2C44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48BD-5CA9-4711-9549-08405085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710-B797-433C-9798-C8473C5E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F04E4-8689-49FC-95A5-D7F73637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B77EC-F0E2-4736-8F8E-2FEE35B4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BFCC-6757-4138-BCA9-9E78A74F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242D-A351-4BC8-9738-801D71D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326D-AA9A-4652-AD1A-4677798B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261D-F913-4F69-B5E4-E71CA1A0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4868-992F-4E6A-BF0D-2FECBD09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399DF-7217-481E-9870-97E1332B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F2080-15C3-4DF9-9A65-A75836ED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3E3-CD7C-4676-B42B-AB39ADF8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103-AA30-463D-B2E1-6124D23F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CFE-64E8-44F6-BFED-662D732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E03-454C-49FE-BE1A-49DBD45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B3F-8C04-440C-882A-E87064B9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CBA-D6D3-4A06-AAA4-C2C42FEBA0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8D43-92B6-40D2-85CA-68C2C0F5AF7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0AD-26FB-482A-8E91-7241E347887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C2A1-CC14-4B22-BAB4-FC677D39B7B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MP 23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Catherine Butc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mbridge Colle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47242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Curlz MT"/>
              </a:rPr>
              <a:t>Easy as ABC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Try the alphab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Content Placeholder 12" descr="Joshy, Heather, and Brandyn and Mommy (Brandyn's Grad) 014.jpg"/>
          <p:cNvPicPr/>
          <p:nvPr/>
        </p:nvPicPr>
        <p:blipFill>
          <a:blip r:embed="rId1"/>
          <a:stretch/>
        </p:blipFill>
        <p:spPr>
          <a:xfrm>
            <a:off x="3575160" y="2259000"/>
            <a:ext cx="5111640" cy="3406680"/>
          </a:xfrm>
          <a:prstGeom prst="rect">
            <a:avLst/>
          </a:prstGeom>
          <a:ln w="0">
            <a:noFill/>
          </a:ln>
        </p:spPr>
      </p:pic>
      <p:sp>
        <p:nvSpPr>
          <p:cNvPr id="219" name="Text Placeholder 11"/>
          <p:cNvSpPr/>
          <p:nvPr/>
        </p:nvSpPr>
        <p:spPr>
          <a:xfrm>
            <a:off x="457200" y="3124080"/>
            <a:ext cx="2819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The sign for “C” is made with a half circle on one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Placeholder 11"/>
          <p:cNvSpPr/>
          <p:nvPr/>
        </p:nvSpPr>
        <p:spPr>
          <a:xfrm>
            <a:off x="533520" y="5562720"/>
            <a:ext cx="3352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Easy for kid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Comic Sans MS"/>
              </a:rPr>
              <a:t>You can do it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urlz MT"/>
              </a:rPr>
              <a:t>Simple Signs  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omic Sans MS"/>
              </a:rPr>
              <a:t>  </a:t>
            </a:r>
            <a:br>
              <a:rPr sz="5000"/>
            </a:br>
            <a:r>
              <a:rPr b="0" lang="en-US" sz="3200" spc="-1" strike="noStrike">
                <a:solidFill>
                  <a:srgbClr val="04617b"/>
                </a:solidFill>
                <a:latin typeface="Comic Sans MS"/>
              </a:rPr>
              <a:t>The sign for “more”</a:t>
            </a:r>
            <a:r>
              <a:rPr b="0" lang="en-US" sz="3200" spc="-1" strike="noStrike">
                <a:solidFill>
                  <a:srgbClr val="04617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4617b"/>
                </a:solidFill>
                <a:latin typeface="Comic Sans MS"/>
              </a:rPr>
              <a:t>The sign for “Eat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Content Placeholder 6" descr="CIMG1629.JPG"/>
          <p:cNvPicPr/>
          <p:nvPr/>
        </p:nvPicPr>
        <p:blipFill>
          <a:blip r:embed="rId1"/>
          <a:stretch/>
        </p:blipFill>
        <p:spPr>
          <a:xfrm>
            <a:off x="457200" y="342900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7" descr="CIMG1639.JPG"/>
          <p:cNvPicPr/>
          <p:nvPr/>
        </p:nvPicPr>
        <p:blipFill>
          <a:blip r:embed="rId2"/>
          <a:stretch/>
        </p:blipFill>
        <p:spPr>
          <a:xfrm>
            <a:off x="4876920" y="3352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f18a23"/>
                </a:solidFill>
                <a:latin typeface="Comic Sans MS"/>
              </a:rPr>
              <a:t>Now It’s Your Turn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Try these easy signs for “</a:t>
            </a:r>
            <a:r>
              <a:rPr b="0" lang="en-US" sz="2800" spc="-1" strike="noStrike">
                <a:solidFill>
                  <a:srgbClr val="f18a23"/>
                </a:solidFill>
                <a:latin typeface="Comic Sans MS"/>
              </a:rPr>
              <a:t>FRIEND</a:t>
            </a: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” and “</a:t>
            </a:r>
            <a:r>
              <a:rPr b="0" lang="en-US" sz="2800" spc="-1" strike="noStrike">
                <a:solidFill>
                  <a:srgbClr val="f18a23"/>
                </a:solidFill>
                <a:latin typeface="Comic Sans MS"/>
              </a:rPr>
              <a:t>AGAIN</a:t>
            </a: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”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while singing Adios Amigos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along with your presenter.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omic Sans MS"/>
              </a:rPr>
              <a:t>Remember:  If you don’t succeed, try, try again </a:t>
            </a:r>
            <a:r>
              <a:rPr b="0" lang="en-US" sz="28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Content Placeholder 9" descr="CIMG1663.JPG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26" name="Content Placeholder 11" descr="CIMG1636.JPG"/>
          <p:cNvPicPr/>
          <p:nvPr/>
        </p:nvPicPr>
        <p:blipFill>
          <a:blip r:embed="rId2"/>
          <a:stretch/>
        </p:blipFill>
        <p:spPr>
          <a:xfrm>
            <a:off x="4724280" y="35053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mic Sans MS"/>
              </a:rPr>
              <a:t>Great Job!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2828520"/>
            <a:ext cx="297180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6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Sign for “Great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Just throw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your arm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up in the air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7026"/>
                </a:solidFill>
                <a:latin typeface="Comic Sans MS"/>
              </a:rPr>
              <a:t>And don’t forget to smi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Placeholder 6" descr="CIMG1645.JPG"/>
          <p:cNvPicPr/>
          <p:nvPr/>
        </p:nvPicPr>
        <p:blipFill>
          <a:blip r:embed="rId1"/>
          <a:srcRect l="5932" t="0" r="5932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fade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2590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Curlz MT"/>
              </a:rPr>
              <a:t>SIG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259092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a23"/>
                </a:solidFill>
                <a:latin typeface="Curlz MT"/>
              </a:rPr>
              <a:t>YOU’R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a23"/>
                </a:solidFill>
                <a:latin typeface="Curlz MT"/>
              </a:rPr>
              <a:t>O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a23"/>
                </a:solidFill>
                <a:latin typeface="Curlz MT"/>
              </a:rPr>
              <a:t>YOUR WAY 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Content Placeholder 9" descr="Joshy, Heather, and Brandyn and Mommy (Brandyn's Grad) 262.jpg"/>
          <p:cNvPicPr/>
          <p:nvPr/>
        </p:nvPicPr>
        <p:blipFill>
          <a:blip r:embed="rId1"/>
          <a:stretch/>
        </p:blipFill>
        <p:spPr>
          <a:xfrm>
            <a:off x="3575160" y="2259000"/>
            <a:ext cx="511164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br>
              <a:rPr sz="36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pirci, O., Cattani, A., Rossini, P., &amp; Volterra, V. (1998). Teaching sign language to hearing children as a possible factor in cognitive enhancement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ournal of Deaf Studies and Deaf Educati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2), 135-142. Retrieved from http://web.ebscohost.com/ehost/detail?vid=6&amp;hid=16&amp;sid=d0cdaa9b-a001-45e7-a536-bbea176eb2be%40SRCSM1&amp;bdata=JnNpdGU9ZWhvc3QtbGl2ZQ%3d%3d#db=psyh&amp;AN=2000-02524-00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urtin, C. (2000). 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Sign language and cognitive flexibilit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19-30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aniels, M. (2004). Happy Hands:  The Effect of ASL on Hearing Children’s Literacy. 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Reading Research and Instruction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86-100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rson, B. C., &amp; Chang, J. I. (2007). Enhancing Hearing Children’s Memory With American Sign Language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Intervention in School &amp; Clinic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239-242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veda, D., Pulido, L., Morgade, M., Messina, C., &amp; Hedlova, Z. (2008). Storytelling with Sigh Language Interpretaton as a Mulimodal Literacy Event:  Implications for Deaf and Hearing Children.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Language &amp; Education:  An International Journa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320-342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21b2c9"/>
                </a:solidFill>
                <a:latin typeface="Curlz MT"/>
              </a:rPr>
              <a:t>Sign and Young Childr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Joshy, Heather, and Brandyn and Mommy (Brandyn's Grad) 016.jpg"/>
          <p:cNvPicPr/>
          <p:nvPr/>
        </p:nvPicPr>
        <p:blipFill>
          <a:blip r:embed="rId1"/>
          <a:stretch/>
        </p:blipFill>
        <p:spPr>
          <a:xfrm>
            <a:off x="1279440" y="1935000"/>
            <a:ext cx="658512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Signing for Hearing Children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Benefit or Not? 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35049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In 1997 a deaf teacher, used sign language while teaching her kindergarten cla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hese children had normal hea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he research for this study was based on this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914400" y="152388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8a23"/>
                </a:solidFill>
                <a:latin typeface="Arial"/>
              </a:rPr>
              <a:t>Research Signing Study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8a2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18a23"/>
                </a:solidFill>
                <a:latin typeface="Arial"/>
              </a:rPr>
              <a:t>Happy Hands. . .”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urlz MT"/>
              </a:rPr>
              <a:t>#1 Signing Study 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90800" indent="-1908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Kindergarten students receiving ASL (American Sign Language) made statistically significant gains in their English vocabul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Increased receptive vocabulary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Increased expressive vocabulary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Tested higher than similar students on reading placement meas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9b74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90800" indent="-190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8a23"/>
                </a:solidFill>
                <a:latin typeface="Arial"/>
                <a:ea typeface="Arial"/>
              </a:rPr>
              <a:t>Research Signing Study #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8a23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18a23"/>
                </a:solidFill>
                <a:latin typeface="Arial"/>
                <a:ea typeface="Arial"/>
              </a:rPr>
              <a:t>Teaching Sign. . .” artic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57200" y="335268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wo year experiment involving two groups of hearing children in the 1</a:t>
            </a:r>
            <a:r>
              <a:rPr b="0" lang="en-US" sz="2400" spc="-1" strike="noStrike" baseline="30000">
                <a:solidFill>
                  <a:srgbClr val="0c9b74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 and 2</a:t>
            </a:r>
            <a:r>
              <a:rPr b="0" lang="en-US" sz="2400" spc="-1" strike="noStrike" baseline="30000">
                <a:solidFill>
                  <a:srgbClr val="0c9b74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One group attended sign language classes, while the other di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9b74"/>
                </a:solidFill>
                <a:latin typeface="Comic Sans MS"/>
              </a:rPr>
              <a:t>Tests were administered at the beginning and end of each schoo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Signing for Hearing Children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urlz MT"/>
              </a:rPr>
              <a:t>Benefit or No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00000"/>
                </a:solidFill>
                <a:latin typeface="Curlz MT"/>
              </a:rPr>
              <a:t>#2 Signing Study 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Students in the sign language classes performed better than those in the other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Results suggest that learning sign language may lead to cognitive advancement in hearing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001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Parent Concerns 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Valid or Not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Content Placeholder 3" descr="IMG_6804.JPG"/>
          <p:cNvPicPr/>
          <p:nvPr/>
        </p:nvPicPr>
        <p:blipFill>
          <a:blip r:embed="rId1"/>
          <a:stretch/>
        </p:blipFill>
        <p:spPr>
          <a:xfrm>
            <a:off x="4530600" y="2895480"/>
            <a:ext cx="3546720" cy="2363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Parents of hearing childre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are concerned about using sign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language with their you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children for fear they will n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learn to spe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Parents of special need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children (autism, spee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d44c22"/>
                </a:solidFill>
                <a:latin typeface="Comic Sans MS"/>
              </a:rPr>
              <a:t>delays, etc), have similar fea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  <p:sndAc>
      <p:stSnd>
        <p:snd r:embed="rId2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nterviews </a:t>
            </a:r>
            <a:br>
              <a:rPr sz="4000"/>
            </a:b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rofessionals and Par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ducation Specialist of preschoolers in San Bernardino, CA, states that special needs children  who have little or no speech learn to communicate with language much faster when using sign langua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arly Childhood Teacher in Fontana, CA, uses sign on a regular basis in her special needs class.  She addresses parents concerns;  telling them that using sign will help “connect” the bridge from talking with their hands to talking with their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One mom used sign with her 8 month old to teach him to say, “mor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Another mom used the “All done” sign to stop the “flinging food” syndrome with her 7 month o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en-US" sz="5000" spc="-1" strike="noStrike">
                <a:solidFill>
                  <a:srgbClr val="04617b"/>
                </a:solidFill>
                <a:latin typeface="Curlz MT"/>
              </a:rPr>
              <a:t>Presenter’s Experience</a:t>
            </a:r>
            <a:br>
              <a:rPr sz="5000"/>
            </a:br>
            <a:br>
              <a:rPr sz="1800"/>
            </a:br>
            <a:r>
              <a:rPr b="1" lang="en-US" sz="1800" spc="-1" strike="noStrike">
                <a:solidFill>
                  <a:srgbClr val="d44c22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d44c22"/>
                </a:solidFill>
                <a:latin typeface="Comic Sans MS"/>
              </a:rPr>
              <a:t>reschoolers and Kindergartners are attentive </a:t>
            </a:r>
            <a:br>
              <a:rPr sz="1800"/>
            </a:br>
            <a:r>
              <a:rPr b="0" lang="en-US" sz="1800" spc="-1" strike="noStrike">
                <a:solidFill>
                  <a:srgbClr val="d44c22"/>
                </a:solidFill>
                <a:latin typeface="Comic Sans MS"/>
              </a:rPr>
              <a:t>for a 45 minute presentation;  normal is about 20 minut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44c22"/>
                </a:solidFill>
                <a:latin typeface="Comic Sans MS"/>
              </a:rPr>
              <a:t>Teachers attribute good behavior during presentation to the simultaneous use of several of the five senses (sight, sound, touch or movement)</a:t>
            </a:r>
            <a:br>
              <a:rPr sz="2400"/>
            </a:br>
            <a:r>
              <a:rPr b="0" lang="en-US" sz="2400" spc="-1" strike="noStrike">
                <a:solidFill>
                  <a:srgbClr val="d44c22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Content Placeholder 3" descr="CATKON5H.jpg"/>
          <p:cNvPicPr/>
          <p:nvPr/>
        </p:nvPicPr>
        <p:blipFill>
          <a:blip r:embed="rId1"/>
          <a:stretch/>
        </p:blipFill>
        <p:spPr>
          <a:xfrm>
            <a:off x="2743200" y="3733920"/>
            <a:ext cx="43149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1:40:35Z</dcterms:created>
  <dc:creator> </dc:creator>
  <dc:description/>
  <dc:language>en-US</dc:language>
  <cp:lastModifiedBy> </cp:lastModifiedBy>
  <dcterms:modified xsi:type="dcterms:W3CDTF">2008-12-06T21:40:55Z</dcterms:modified>
  <cp:revision>23</cp:revision>
  <dc:subject/>
  <dc:title>Sign Language Benefits  in the Education of Young Children</dc:title>
</cp:coreProperties>
</file>